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CC1769-474B-4305-A86F-C9078E2A87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C8904F-C69B-4123-AA17-984CA3A73A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219D4-4382-4361-9875-1A6A8734FB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52686-4411-44D1-AC06-6D81A4F052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CBE18-FE05-46CE-A6DD-C150B2557E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6303C-39DE-4F78-92E2-B75CA58904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48BF0-C431-4D26-B0C4-C4EA9E44D2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05F9D-B48E-435E-A1F2-C5A8BB50EF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D0850-BA7D-456F-BB4C-C030F18085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6D7D6-AC1E-4C33-9387-F2893A6FA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FCDD-4246-4384-ABB1-4376205210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A6CA0-9105-4D7E-8751-67DACE6F1C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0CCD-ABFE-458D-A146-C566C47A05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9BE5-0D72-4250-AC4F-5292E6EEFF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38795-74A9-4E13-8BD7-2F9F3DB255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50F2-61D8-44AC-939D-C77C4F446B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A27E1-B934-4731-8AA8-5DCA351EDA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096EA-3AB0-45B3-8949-5348BE4341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9D53-B248-40DB-B3B0-30AF38CF1A0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46E6-F9E5-49BF-A51B-A34F68F03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C8AD-D82D-40C7-83E8-5D5D4981AAB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1D3FE-89BA-435E-BD13-F24BCE05A7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181C9-5083-41B2-B14E-1F46A3F4D4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9E9EF-B2F0-4B3A-9900-3B5C0699AB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63C5A-9055-46CC-9B6D-31DCB2FED9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545A5-87E3-4B7B-A800-02D5E35F5A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3C52E-1803-4598-8319-3B3D15256C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F3DE9-BB8C-48A5-B3E3-6B82BB4471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D9264-B7B5-4B4C-AB0C-CCF90361E51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B404F-EB51-4CAA-9B6E-1D899DCEA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A588-92D2-4414-9B70-C9AEE4D263A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D2EFC-B9A7-4349-BDBC-78140B3FF44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9B938-6942-40ED-8D09-2F752A3F39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B0F9A-52E8-4C32-BB0C-66E87571DF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5D9F-5E64-4626-BA04-27A846168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C39F-ABFE-43A1-B227-20A457EC3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4889-3CEF-4013-A02B-56EE6429E9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92F1-49DF-4A68-9672-48FAB064C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0456-4209-4BA3-BA1A-FB033F652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F145-E9B6-45EA-B7B3-8F7F4164B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C5D3-9F87-42F5-8A8E-A722996D72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D773-CD1B-4C91-89DE-296C12EE8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2ADD-DC36-4C25-B4E1-555544C6D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0C68-219A-4FAA-8FC4-9CEE597C4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7088-CFD5-4734-8593-126B60C9BB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2F943-3EF0-43E9-B1CF-8AF3F1E1F7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46323-1308-4109-AF30-7AB6267E21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9B9B3-B8C6-490D-81C0-5FA3F5BFCB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F6E03-1B09-4D8F-84BA-329F76AE5E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B9DF-8CF7-468B-A701-34CD19A4A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628A1-81CD-4354-BC24-96C33D18BB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EDA8F-63B9-4AA9-B682-4C4CDC1969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21E4D-FE03-43DE-91DD-3A89DB7143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CFCAF-8DC8-4025-849D-7037705F4D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00F62-BD1B-48C7-A0F5-5D302E9C9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A595E-4497-4233-AF02-57D6489257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3CE39-21C0-4453-8D01-0F114F27D1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B6F-F3C3-46FA-BD9F-C700CF5142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63DC-F523-407F-93E1-16A7524A57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440-774C-45DC-936C-D85EB7B7A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193F-2C12-49E0-9718-933DF065F6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E93-39AB-45DD-B5E7-673D5804AA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613-99F4-4D13-AE4B-8EB52D81C0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75D-7B93-4466-97B0-3D6F2A002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C808-3153-4DEE-90D8-6D3C4365A2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0B3D-DEDC-4C0C-9FE6-227CF5EDC6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22B7-53CC-4EF6-AA71-3589ECF3E5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6807-B942-4988-A32A-C7B9FB66D3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3C51-68B6-4A2D-8CCB-02F6DCC85C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C8727-8D77-474F-86FF-A56A84338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88BB6-78C0-49CC-80A7-3AEB2B8203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1A6B0-6401-462E-BE28-04FD44AAAC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59BF8-CA6C-4A47-B166-10CD85DA67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C79DD-06A6-439E-B5E6-67FE5170E3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9703B-6512-48E3-9475-FAEECDEBA6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5AAC4-2924-412F-8BC9-63392B2851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EA126-C301-433E-A6E1-01E74E7698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0811-1644-4948-93DD-B133884C52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08307-A4DF-4CB6-8B98-F5E629F74F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22ECE-1DC4-46AE-80D3-978C7E35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71814-2EC3-497F-B60A-288D474C86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535C9-EA4F-4F17-A076-0E1971D99E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28D05-1261-4E75-AFC3-664A22166C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9E308-BC08-44DF-AA9F-9D69CFEFBB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85CBE-AA10-46FC-9CF7-7A880890B0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298BF-38AA-48D1-B1B1-55EA367DA6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94060-4962-4010-9242-29F7863A94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35552-EADD-4381-8DE0-DC4C2CBA55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2C0C7-EC67-44C9-B094-76D22837D3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D2BE7-8957-4F4C-BABF-4A916D0FA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20560-2568-4849-8E3B-5BC0D325A1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E63D8-DCAD-47AE-915A-F0B934FCE8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9F9F1-9D1B-4C9F-94FE-CBB24BD71A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DD8C-30D3-426C-89E3-D1D52D4E28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3283-EF0B-437C-8247-DD5130B267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BDF2-0611-46FE-B313-0BFCA82421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04B4-A13A-406B-9EC6-6A30FB9E88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DB7C-B15F-4BE3-A74C-6970129AA4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BDD8-1D89-4A34-A337-D796175230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E77D-4742-4036-8815-2C6CA4F15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4895-EEB3-4633-BA86-DC3D3A4CE4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EA01-006A-4D63-A63F-7EF4D3CAA6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212E-ABAF-47FE-A3A2-35181ED440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F048-520C-48B5-8873-1EEC314DD1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30E8-C436-4505-BB11-F1EF61D084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14C75-E318-480E-BA45-95D7769326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9AD08-CCC1-49E2-BF28-90D98FADDCD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5A942-95A5-46E3-88F5-2B1863FD43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6ADA7-6C14-41AA-AB75-460D563D89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A48AE-A697-458D-9572-ACD66C31E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854DA-1633-433A-9174-3EEA349659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99FC1-82D3-477F-AA3C-F9DFE0C58C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6AAE9-2D15-46E6-951A-E51666BE17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3F0BC-49C0-4264-BCEC-A61C4E7074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A0837-C9AD-47C5-861A-0CDCD1D86F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8B116-B23A-40F4-A46D-203D509036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AD2E8-97A4-4E8E-AED8-E6BC7F3613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9544B-0862-4E3E-9E51-A3B63C58F6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CCCDAF-CD22-41E8-863F-A0840B12579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E871A7-D65A-46C0-8B6E-AF4D6AD34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4CF-765E-45EE-90EC-D9D02F361DB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61C-8279-4532-A943-E792E680E851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288-4176-42D1-AA2C-1E4B57E4731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797-7B24-43E8-B637-AD5FC8204EE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A52-43D2-4A14-A740-C051A54D1E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81F-2A99-4F87-B4B6-963695F5BBC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8F7-E489-45FD-87E8-03A0600AE2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459-37A6-4766-868E-5958A8B1D6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398-16DF-4ED9-A834-95C75476A1C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BD7-E863-4760-BBAC-85C34D495BF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Tecniche grafiche avanza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Luca Fiammengh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10 Polimi + 1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611280" y="328464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Studiamo soluzioni per la rappresentazione e la riproduzione del progetto, nell’ambito della comunicazione visiva, prodotto, spazi architettonici, tessuti e accessori. </a:t>
            </a:r>
            <a:br>
              <a:rPr sz="2000"/>
            </a:b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Non ci basta immaginare come fare, ma ci interessa anche affrontare il “come si fa”, valorizzando materiali, supporti e peculiarità degli strumenti di lavor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5" name="Immagine 7" descr="2013_trapani.jpg"/>
          <p:cNvPicPr/>
          <p:nvPr/>
        </p:nvPicPr>
        <p:blipFill>
          <a:blip r:embed="rId1"/>
          <a:stretch/>
        </p:blipFill>
        <p:spPr>
          <a:xfrm>
            <a:off x="2057400" y="5257800"/>
            <a:ext cx="1627200" cy="1317600"/>
          </a:xfrm>
          <a:prstGeom prst="rect">
            <a:avLst/>
          </a:prstGeom>
          <a:ln w="0">
            <a:noFill/>
          </a:ln>
        </p:spPr>
      </p:pic>
      <p:pic>
        <p:nvPicPr>
          <p:cNvPr id="456" name="Immagine 6" descr="tape.jpg"/>
          <p:cNvPicPr/>
          <p:nvPr/>
        </p:nvPicPr>
        <p:blipFill>
          <a:blip r:embed="rId2"/>
          <a:stretch/>
        </p:blipFill>
        <p:spPr>
          <a:xfrm>
            <a:off x="755640" y="5257800"/>
            <a:ext cx="1382760" cy="1333440"/>
          </a:xfrm>
          <a:prstGeom prst="rect">
            <a:avLst/>
          </a:prstGeom>
          <a:ln w="0">
            <a:noFill/>
          </a:ln>
        </p:spPr>
      </p:pic>
      <p:pic>
        <p:nvPicPr>
          <p:cNvPr id="457" name="Immagine 5" descr="3livelli_colore.jpg"/>
          <p:cNvPicPr/>
          <p:nvPr/>
        </p:nvPicPr>
        <p:blipFill>
          <a:blip r:embed="rId3"/>
          <a:stretch/>
        </p:blipFill>
        <p:spPr>
          <a:xfrm>
            <a:off x="-108000" y="5257800"/>
            <a:ext cx="936720" cy="1338120"/>
          </a:xfrm>
          <a:prstGeom prst="rect">
            <a:avLst/>
          </a:prstGeom>
          <a:ln w="0">
            <a:noFill/>
          </a:ln>
        </p:spPr>
      </p:pic>
      <p:pic>
        <p:nvPicPr>
          <p:cNvPr id="458" name="Immagine 8" descr="Cucina_01-b.jpg"/>
          <p:cNvPicPr/>
          <p:nvPr/>
        </p:nvPicPr>
        <p:blipFill>
          <a:blip r:embed="rId4"/>
          <a:stretch/>
        </p:blipFill>
        <p:spPr>
          <a:xfrm>
            <a:off x="3657600" y="5257800"/>
            <a:ext cx="1855800" cy="1314360"/>
          </a:xfrm>
          <a:prstGeom prst="rect">
            <a:avLst/>
          </a:prstGeom>
          <a:ln w="0">
            <a:noFill/>
          </a:ln>
        </p:spPr>
      </p:pic>
      <p:pic>
        <p:nvPicPr>
          <p:cNvPr id="459" name="Immagine 9" descr="digital03.jpg"/>
          <p:cNvPicPr/>
          <p:nvPr/>
        </p:nvPicPr>
        <p:blipFill>
          <a:blip r:embed="rId5"/>
          <a:stretch/>
        </p:blipFill>
        <p:spPr>
          <a:xfrm>
            <a:off x="5486400" y="5257800"/>
            <a:ext cx="1855800" cy="1314360"/>
          </a:xfrm>
          <a:prstGeom prst="rect">
            <a:avLst/>
          </a:prstGeom>
          <a:ln w="0">
            <a:noFill/>
          </a:ln>
        </p:spPr>
      </p:pic>
      <p:pic>
        <p:nvPicPr>
          <p:cNvPr id="460" name="Immagine 10" descr="RomanaTopescu.jpg"/>
          <p:cNvPicPr/>
          <p:nvPr/>
        </p:nvPicPr>
        <p:blipFill>
          <a:blip r:embed="rId6"/>
          <a:stretch/>
        </p:blipFill>
        <p:spPr>
          <a:xfrm>
            <a:off x="7299360" y="5257800"/>
            <a:ext cx="18446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"/>
          <p:cNvSpPr/>
          <p:nvPr/>
        </p:nvSpPr>
        <p:spPr>
          <a:xfrm>
            <a:off x="1358280" y="158760"/>
            <a:ext cx="57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rsi a scelta di Area Tematico-Strumenta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457200" y="1066680"/>
            <a:ext cx="83520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Verdana"/>
              </a:rPr>
              <a:t>Come: </a:t>
            </a: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indagine sui rapporti formali, luci/ombre, volumi, spazi e valori, per arrivare all'idea di rappresentazion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Non solo tecniche grafiche, ma stimoli verso un pensiero creativo capace di riconoscere e ricostruire relazioni tra tutte le parti di un processo di comunicazion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Verdana"/>
              </a:rPr>
              <a:t>Cosa: </a:t>
            </a: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utilizziamo strumenti tradizionali come matite o pennarelli, trasponendo l</a:t>
            </a:r>
            <a:r>
              <a:rPr b="0" lang="ja-JP" sz="2000" spc="-1" strike="noStrike">
                <a:solidFill>
                  <a:srgbClr val="404040"/>
                </a:solidFill>
                <a:latin typeface="Verdana"/>
              </a:rPr>
              <a:t>’</a:t>
            </a: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esperienza acquisita nell’uso di software con cui raccontare materia, materiali e support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Particolare attenzione sarà dedicata alla postproduzione 2D ed alle tecniche di sketching digital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" spc="-1" strike="noStrike">
                <a:solidFill>
                  <a:srgbClr val="404040"/>
                </a:solidFill>
                <a:latin typeface="Verdana"/>
              </a:rPr>
              <a:t> </a:t>
            </a:r>
            <a:r>
              <a:rPr b="0" lang="it-IT" sz="2000" spc="-1" strike="noStrike">
                <a:solidFill>
                  <a:srgbClr val="404040"/>
                </a:solidFill>
                <a:latin typeface="Verdana"/>
              </a:rPr>
              <a:t>Ulteriore aspetto legato alla riproduzione coinvolgerà le arti grafiche sia offset che digitali, per le soluzioni disponibili con le tecnologie innovative della stampa sia 2D che 3D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4" name="Immagine 6" descr="MilanHansel.jpg"/>
          <p:cNvPicPr/>
          <p:nvPr/>
        </p:nvPicPr>
        <p:blipFill>
          <a:blip r:embed="rId1"/>
          <a:stretch/>
        </p:blipFill>
        <p:spPr>
          <a:xfrm>
            <a:off x="914400" y="5334120"/>
            <a:ext cx="1736640" cy="1239840"/>
          </a:xfrm>
          <a:prstGeom prst="rect">
            <a:avLst/>
          </a:prstGeom>
          <a:ln w="0">
            <a:noFill/>
          </a:ln>
        </p:spPr>
      </p:pic>
      <p:pic>
        <p:nvPicPr>
          <p:cNvPr id="465" name="Immagine 5" descr="shopper_MG_3389.jpg"/>
          <p:cNvPicPr/>
          <p:nvPr/>
        </p:nvPicPr>
        <p:blipFill>
          <a:blip r:embed="rId2"/>
          <a:stretch/>
        </p:blipFill>
        <p:spPr>
          <a:xfrm>
            <a:off x="0" y="5334120"/>
            <a:ext cx="1066680" cy="1258920"/>
          </a:xfrm>
          <a:prstGeom prst="rect">
            <a:avLst/>
          </a:prstGeom>
          <a:ln w="0">
            <a:noFill/>
          </a:ln>
        </p:spPr>
      </p:pic>
      <p:pic>
        <p:nvPicPr>
          <p:cNvPr id="466" name="Immagine 7" descr="marzia_vaghi.jpg"/>
          <p:cNvPicPr/>
          <p:nvPr/>
        </p:nvPicPr>
        <p:blipFill>
          <a:blip r:embed="rId3"/>
          <a:stretch/>
        </p:blipFill>
        <p:spPr>
          <a:xfrm>
            <a:off x="2590920" y="53341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467" name="Immagine 9" descr="laura_gruemann.jpg"/>
          <p:cNvPicPr/>
          <p:nvPr/>
        </p:nvPicPr>
        <p:blipFill>
          <a:blip r:embed="rId4"/>
          <a:stretch/>
        </p:blipFill>
        <p:spPr>
          <a:xfrm>
            <a:off x="4343400" y="533412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468" name="Immagine 10" descr="_MG_2764.jpg"/>
          <p:cNvPicPr/>
          <p:nvPr/>
        </p:nvPicPr>
        <p:blipFill>
          <a:blip r:embed="rId5"/>
          <a:stretch/>
        </p:blipFill>
        <p:spPr>
          <a:xfrm>
            <a:off x="5486400" y="5334120"/>
            <a:ext cx="831960" cy="1247760"/>
          </a:xfrm>
          <a:prstGeom prst="rect">
            <a:avLst/>
          </a:prstGeom>
          <a:ln w="0">
            <a:noFill/>
          </a:ln>
        </p:spPr>
      </p:pic>
      <p:pic>
        <p:nvPicPr>
          <p:cNvPr id="469" name="Immagine 3" descr=""/>
          <p:cNvPicPr/>
          <p:nvPr/>
        </p:nvPicPr>
        <p:blipFill>
          <a:blip r:embed="rId6"/>
          <a:stretch/>
        </p:blipFill>
        <p:spPr>
          <a:xfrm>
            <a:off x="6300720" y="5194440"/>
            <a:ext cx="905040" cy="1538280"/>
          </a:xfrm>
          <a:prstGeom prst="rect">
            <a:avLst/>
          </a:prstGeom>
          <a:ln w="0">
            <a:noFill/>
          </a:ln>
        </p:spPr>
      </p:pic>
      <p:pic>
        <p:nvPicPr>
          <p:cNvPr id="470" name="Immagine 4" descr=""/>
          <p:cNvPicPr/>
          <p:nvPr/>
        </p:nvPicPr>
        <p:blipFill>
          <a:blip r:embed="rId7"/>
          <a:stretch/>
        </p:blipFill>
        <p:spPr>
          <a:xfrm>
            <a:off x="7164360" y="5337000"/>
            <a:ext cx="1160640" cy="1251000"/>
          </a:xfrm>
          <a:prstGeom prst="rect">
            <a:avLst/>
          </a:prstGeom>
          <a:ln w="0">
            <a:noFill/>
          </a:ln>
        </p:spPr>
      </p:pic>
      <p:pic>
        <p:nvPicPr>
          <p:cNvPr id="471" name="Immagine 11" descr="_MG_3979 erica invernizzi g21.jpg"/>
          <p:cNvPicPr/>
          <p:nvPr/>
        </p:nvPicPr>
        <p:blipFill>
          <a:blip r:embed="rId8"/>
          <a:stretch/>
        </p:blipFill>
        <p:spPr>
          <a:xfrm>
            <a:off x="8317080" y="5334120"/>
            <a:ext cx="954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0:42:07Z</dcterms:created>
  <dc:creator>Silvia</dc:creator>
  <dc:description/>
  <dc:language>en-US</dc:language>
  <cp:lastModifiedBy>L F</cp:lastModifiedBy>
  <cp:lastPrinted>2003-05-08T11:08:41Z</cp:lastPrinted>
  <dcterms:modified xsi:type="dcterms:W3CDTF">2014-07-14T07:35:07Z</dcterms:modified>
  <cp:revision>201</cp:revision>
  <dc:subject/>
  <dc:title>Inserire immagine della locandina, possibilmente in trasparenza e aggiungere Facoltà di Architettura Illustrazione prova di ammissione prof. Silvia Piardi (idem Cedolin)</dc:title>
</cp:coreProperties>
</file>